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83820"/>
        <c:axId val="41279158"/>
      </c:barChart>
      <c:catAx>
        <c:axId val="41683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79158"/>
        <c:crosses val="autoZero"/>
        <c:auto val="1"/>
        <c:lblAlgn val="ctr"/>
        <c:lblOffset val="100"/>
        <c:noMultiLvlLbl val="0"/>
      </c:catAx>
      <c:valAx>
        <c:axId val="41279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83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359-DDBF-492D-A260-0DBA6513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499-17F4-4550-A955-0CEA35F5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E3E-FDB0-4EAA-BF7A-E16459CE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34F-D981-457D-8D45-567D7D91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311-99B1-4E99-A496-5DB80CCD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937-27E1-4FF8-A811-D81A1658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927-03AC-426F-A48F-D8544E3D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7D5-6F70-4899-B6A3-E2B04625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FEA-D7FA-4DC5-984B-269A31B1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784-787B-4DAA-8BC3-4C3DD1DA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7F8-4369-4FFB-B589-71D2713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D1B-6669-45C1-BB2C-B109DB65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E76EC-1F01-4CFC-861A-86824B3975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