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59422"/>
        <c:axId val="32761229"/>
      </c:barChart>
      <c:catAx>
        <c:axId val="64459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61229"/>
        <c:crosses val="autoZero"/>
        <c:auto val="1"/>
        <c:lblAlgn val="ctr"/>
        <c:lblOffset val="100"/>
        <c:noMultiLvlLbl val="0"/>
      </c:catAx>
      <c:valAx>
        <c:axId val="32761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59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3D9-2A07-4547-857D-84DF1252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851-C63B-474D-B312-DC120A92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790-092C-4D3D-AB17-188C5F2F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579-45B8-48D4-BA69-88AA89D9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551-DE57-4664-91CD-F058A996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2C9-A7C4-4C66-AF90-913FEA48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EC6-A813-4A62-92BF-EFCC867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963-D913-47BC-8DA8-C8BA10BA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1BB-6AD9-4A59-864A-8465C3BD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167-E3D7-404D-AB8E-05FACE0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28F-56E0-4566-9C68-10DD8291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AD4-45BE-4FAC-B5B4-6D90E76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F5163-ABF4-4EE2-A19C-F45451BDD6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