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28290"/>
        <c:axId val="98951763"/>
      </c:barChart>
      <c:catAx>
        <c:axId val="7472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51763"/>
        <c:crosses val="autoZero"/>
        <c:auto val="1"/>
        <c:lblAlgn val="ctr"/>
        <c:lblOffset val="100"/>
        <c:noMultiLvlLbl val="0"/>
      </c:catAx>
      <c:valAx>
        <c:axId val="98951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2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772-8C01-42B5-B56C-99E9DE6A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669-94DC-4C19-84DB-DEA5C62C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5C1-5663-4551-9823-5BBC09B3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2DD-0349-4FC9-8A5F-7BF5180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523-5D9A-4AA3-A9D9-074D9546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CCA-AA8E-4EDA-8EDE-A9D52A0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4FA-E625-44EE-B362-CA62D301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980-08D0-4113-960C-E0F968E9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0BD-3CC7-4582-82E5-918CE613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E88-8F58-43BB-ADFF-D1F3645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7D5-7AD9-4CE3-BD0C-EA64670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8F8-8230-4148-83AC-4332D9E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9F666-0926-4412-BA74-774E3D9C50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