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511950"/>
        <c:axId val="62009694"/>
      </c:barChart>
      <c:catAx>
        <c:axId val="355119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009694"/>
        <c:crosses val="autoZero"/>
        <c:auto val="1"/>
        <c:lblAlgn val="ctr"/>
        <c:lblOffset val="100"/>
        <c:noMultiLvlLbl val="0"/>
      </c:catAx>
      <c:valAx>
        <c:axId val="620096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5119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99DC-D2A9-4315-ACA3-DBF03CF40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8573-5E57-4015-8A1D-76775E855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C409-989F-4FF2-AE8A-7BA2BE6E8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5B87-27C1-4232-BE9C-3107A2F9B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C949-AD1E-46D1-96FA-DD0A6F845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6460-5BBB-4ADD-9424-5EEA771AD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0FB0-9D93-49D7-B296-2D417BCBE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6554-A3AC-4458-ABEC-48D4902F9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52EC-A29C-48DD-9A5E-51CE939A7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305C-BE92-4905-BD02-2D1C6D18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37BB-D011-4D12-9AD9-B2E1AAA0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CB04-7EEE-45A7-9617-FE7FBEBD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32E7B7-BC4A-4F17-8FBB-6899A06FFEA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