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45068"/>
        <c:axId val="74348052"/>
      </c:barChart>
      <c:catAx>
        <c:axId val="55445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48052"/>
        <c:crosses val="autoZero"/>
        <c:auto val="1"/>
        <c:lblAlgn val="ctr"/>
        <c:lblOffset val="100"/>
        <c:noMultiLvlLbl val="0"/>
      </c:catAx>
      <c:valAx>
        <c:axId val="74348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45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B6F-59E4-463E-AABC-14F6D1AC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5BA-F710-48CB-A528-07D45313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5D6-9A8C-4CC4-8846-7BBBA75D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44C-6A51-436D-B2F2-AF0A4A10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3D4-86AA-4C6B-B805-951C7839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CB8-FEAD-4E27-B59F-6D54E106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91A-161D-4027-A1E3-21D14226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605-3254-4BD3-A4B2-E556828A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92D-B310-46E3-A224-4780D085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452-BDB7-48F5-B78B-48EE1A60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19A-2489-4E2F-8984-979D937E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021-B5A0-4960-ACD0-961259FF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B2195-CEB1-4AB5-8B68-7F9827E136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