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92535"/>
        <c:axId val="42455545"/>
      </c:barChart>
      <c:catAx>
        <c:axId val="10392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55545"/>
        <c:crosses val="autoZero"/>
        <c:auto val="1"/>
        <c:lblAlgn val="ctr"/>
        <c:lblOffset val="100"/>
        <c:noMultiLvlLbl val="0"/>
      </c:catAx>
      <c:valAx>
        <c:axId val="4245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92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A55-DB7C-42D8-BDA0-FD2237F9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4DD-0C3A-4340-B22B-F073FDF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220-537E-4F34-B8AC-DA2253D4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A44-6A02-4BB1-8DE5-8DD3F748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441-F5A4-4A96-9E7A-29DD303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911-EE3C-4C18-9AAD-D9CEEA3C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5A6-85D1-4371-8D54-686345CA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273-8574-46C4-8280-09983A7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807-C153-4AE0-AFCF-6906884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E1E-7854-4C13-8021-2271E44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5E5-49AC-472C-A06F-4A88B47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20C-A17E-459F-BD46-36BC2C8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CF96F-C1E4-4F65-A53B-2689147561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