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925052"/>
        <c:axId val="43929583"/>
      </c:barChart>
      <c:catAx>
        <c:axId val="329250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29583"/>
        <c:crosses val="autoZero"/>
        <c:auto val="1"/>
        <c:lblAlgn val="ctr"/>
        <c:lblOffset val="100"/>
        <c:noMultiLvlLbl val="0"/>
      </c:catAx>
      <c:valAx>
        <c:axId val="439295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9250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54CF-BB5A-4766-BA4B-E8A6EF588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7C43-BE1C-40F2-82CD-FB04CA46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17DB-4656-458E-9441-6DFE78A9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11CA-77B5-4B7B-95DB-7EE5780A3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C2BE-90D1-40D3-B260-20501E9E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5718-E9F6-47B6-9312-88B406E0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4BB0-803B-467F-810A-82CCEA34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CBD0-D6F3-4109-B63F-E6FBA79B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4E16-A280-49D4-AED7-9BC0CFC7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AB8F-A08E-469F-BADA-414D4A7C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2F91-984C-4C2A-87A3-AE82FB01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9EED-7D46-4511-BEC5-C6BD0EEB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53339-2239-46C9-B37F-62CEF819AA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