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94995"/>
        <c:axId val="70035567"/>
      </c:barChart>
      <c:catAx>
        <c:axId val="29394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5567"/>
        <c:crosses val="autoZero"/>
        <c:auto val="1"/>
        <c:lblAlgn val="ctr"/>
        <c:lblOffset val="100"/>
        <c:noMultiLvlLbl val="0"/>
      </c:catAx>
      <c:valAx>
        <c:axId val="70035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94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0B3-5142-4FDF-9F1C-D4F803F6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748-C074-462B-BC20-BC1619DA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B25-6D00-45C3-99EB-1ECC51D6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A04-187D-4176-8C4B-4C36CCB0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804-8814-48A6-8285-97E4AC3C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C5F-AEB3-41E2-AD86-F446586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E09-FEFE-488E-ADAA-AB8CFA5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166-7B5A-4440-A50E-7A7D935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D99-0061-44C9-B9D0-273DF7B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8D9-9B6A-4B90-9E16-11AA013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CFE-7B05-4A9A-94FB-BDBC3EE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125-C477-4AED-94A9-C1D709A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0395-2110-4552-B5A6-6670E60F9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