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63053"/>
        <c:axId val="18286723"/>
      </c:barChart>
      <c:catAx>
        <c:axId val="34063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6723"/>
        <c:crosses val="autoZero"/>
        <c:auto val="1"/>
        <c:lblAlgn val="ctr"/>
        <c:lblOffset val="100"/>
        <c:noMultiLvlLbl val="0"/>
      </c:catAx>
      <c:valAx>
        <c:axId val="18286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63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A2C-B4F8-49A3-81FA-FF2F946A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BAF-BB8A-4CD1-B8C3-EE49253E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7A7-4A1F-4C2B-95BD-6EE38414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1CD-A292-41F3-9605-F2BC820E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B69-D224-447C-89FB-6CC30F0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89C-A211-484B-8B64-FD84524E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748-C9B6-4104-B188-16C69D3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C47-1DD4-4F48-982F-78B0AB90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849-70DE-40A5-9E00-F4BAAD82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FE1-D8F4-4F27-A29D-6D90E1F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6D4-491E-42F9-A834-6275922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AA1-2F15-41DC-A241-D0C2D7A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E3378-B497-40FB-85E7-952CF1C8AC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