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43003"/>
        <c:axId val="27569504"/>
      </c:barChart>
      <c:catAx>
        <c:axId val="17343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69504"/>
        <c:crosses val="autoZero"/>
        <c:auto val="1"/>
        <c:lblAlgn val="ctr"/>
        <c:lblOffset val="100"/>
        <c:noMultiLvlLbl val="0"/>
      </c:catAx>
      <c:valAx>
        <c:axId val="27569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43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8A7-232E-4F4D-9248-AA700ECF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442-EA58-450A-8C4E-56FF6B42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E06-2D56-4F79-A9E7-8EDE78F5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28D2-A40A-4C0D-965A-9D06C947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F9F0-BBA2-41CA-9A60-7C78F7F3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9C4A-60BB-44ED-BC5E-55A364B2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B6A-2ED6-48D1-8C7C-1B2C489B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61C-C893-45D4-9B81-1954A3D9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231F-1696-4FB9-BE9E-6233D029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B86F-2566-4A5A-A4DA-1A872BB2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8667-9882-4128-9B7A-B0168056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59C-46FE-4840-8634-F297CD9E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4B148-B11D-41A9-BE8B-1BC7C19643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