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3517113"/>
        <c:axId val="41828445"/>
      </c:barChart>
      <c:catAx>
        <c:axId val="1351711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828445"/>
        <c:crosses val="autoZero"/>
        <c:auto val="1"/>
        <c:lblAlgn val="ctr"/>
        <c:lblOffset val="100"/>
        <c:noMultiLvlLbl val="0"/>
      </c:catAx>
      <c:valAx>
        <c:axId val="4182844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51711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4D4B-38B0-4228-B530-897923538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8F29-D516-4781-BF4A-E9002AB44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AA78-A257-42AD-8B9C-B9A8EFE96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4613-CC28-4429-8D9E-C76387F94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82BD-397C-4843-9D20-7D75F7C8B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4A6F-A46F-4FD4-B9B4-7925E8539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146E-39F0-453A-ACEA-5DE0BBC66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009B-B7BA-44C9-BD93-4BE7EC536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DD4D-5AAE-4B31-AC98-EEA02394D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6C3F-CA8C-4C9A-9ECC-8606D1246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39F5-7C58-431D-98CA-18F158FBF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AFF7-99AD-4F96-85A1-0FD95BAB2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74DE55-893C-49E4-A762-3F3FC5C4686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