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13330"/>
        <c:axId val="13181342"/>
      </c:barChart>
      <c:catAx>
        <c:axId val="76013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81342"/>
        <c:crosses val="autoZero"/>
        <c:auto val="1"/>
        <c:lblAlgn val="ctr"/>
        <c:lblOffset val="100"/>
        <c:noMultiLvlLbl val="0"/>
      </c:catAx>
      <c:valAx>
        <c:axId val="13181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13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EA8-C58B-4350-AE94-94DC10E7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606-87D3-4C1A-82A8-213EB8E4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912-AC18-418F-847D-E800CB19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096-6FA2-4408-BDAA-C8CC6DCC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091-8BA6-4E4D-A641-35C1CDB5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2D1-1EDB-4848-843F-C729230E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5D2-6D6C-44B2-8916-A212FC2C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499-03B4-4B00-991A-042646D8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E27-3A4F-49CE-A8F4-93810199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42E-9BD8-47B9-BB18-D0FC6AE1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C31-968D-4AF9-A4DC-20602A96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A00-8F15-4154-885E-77763AE9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AEB67-E743-4903-AEF5-6C472473BD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