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847293"/>
        <c:axId val="37798177"/>
      </c:barChart>
      <c:catAx>
        <c:axId val="908472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98177"/>
        <c:crosses val="autoZero"/>
        <c:auto val="1"/>
        <c:lblAlgn val="ctr"/>
        <c:lblOffset val="100"/>
        <c:noMultiLvlLbl val="0"/>
      </c:catAx>
      <c:valAx>
        <c:axId val="377981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472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E19-7005-43B5-A1E0-4FC573B9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6378-BE2F-44A1-836F-254042E0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8D0-EA6D-424C-8425-75DBF7BA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DBA-9DF5-4E8E-B77C-68AD3A0E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D13B-97DB-4784-9D09-31AF0EB6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9BF1-DFAE-4CAF-814A-D3B1540C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CDB-13CD-4B47-9766-44B72DBF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0DF-4DB7-422B-AD65-2F7F99BC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85A-B3CC-43D3-B892-2F0F2D8E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0D90-36CB-4B9C-BEAC-D624A4AF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BDBB-1644-4F02-8481-F58D773E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21D-EAFD-4128-949C-362CCA81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3CED5-57DA-4E75-A55B-2782C7D4EC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