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47490"/>
        <c:axId val="23673433"/>
      </c:barChart>
      <c:catAx>
        <c:axId val="60647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73433"/>
        <c:crosses val="autoZero"/>
        <c:auto val="1"/>
        <c:lblAlgn val="ctr"/>
        <c:lblOffset val="100"/>
        <c:noMultiLvlLbl val="0"/>
      </c:catAx>
      <c:valAx>
        <c:axId val="23673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47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2BF3-9E4A-4D3B-B408-7BAE95B3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19E-2E93-4834-B742-03D4103A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A11-F32E-4A2F-ABB6-A09C78E9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983-8917-4EBC-A323-F32989BC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E06-DDE1-4C96-96BE-891D2836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87B-88DF-480D-A9B0-2624EA83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779-BFAC-4239-B061-5EEDEEDE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DD0-9A28-4E1D-BF87-B90A8ADC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8FE-B036-42E7-AA9F-B641BE4B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3D1-2F0D-438B-A387-D3404696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F33-1ACF-403F-B3F6-E706EBF6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432-6F26-4B41-8A53-D83791D0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365F6-D109-4CFD-94CE-F715E6790B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