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62744"/>
        <c:axId val="40463593"/>
      </c:barChart>
      <c:catAx>
        <c:axId val="27162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63593"/>
        <c:crosses val="autoZero"/>
        <c:auto val="1"/>
        <c:lblAlgn val="ctr"/>
        <c:lblOffset val="100"/>
        <c:noMultiLvlLbl val="0"/>
      </c:catAx>
      <c:valAx>
        <c:axId val="40463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62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23B-7E83-4599-AC56-B3B14B68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CD6-212D-4F61-A2AE-104343AE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DBD-B44D-47BD-A272-099681FD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DA8-782F-4E89-B8E7-2B1C23B1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28C-D04B-4B99-AE57-F9C05530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E86-27B3-44CD-B073-F0CCB88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3FD-A221-4D57-B667-5E9E4606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C35-B34E-4A8B-ADA6-D22731C7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D39-DC04-49B9-814C-0508EF0B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F5E-0ABE-4B90-ABEF-90D799EE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B4A-AAE2-4B31-9F22-2582EE3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25B-65B5-457D-92AD-5EE66D4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1C18F-93CD-4487-B05A-D38AE35B8E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