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67066"/>
        <c:axId val="18676064"/>
      </c:barChart>
      <c:catAx>
        <c:axId val="35667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76064"/>
        <c:crosses val="autoZero"/>
        <c:auto val="1"/>
        <c:lblAlgn val="ctr"/>
        <c:lblOffset val="100"/>
        <c:noMultiLvlLbl val="0"/>
      </c:catAx>
      <c:valAx>
        <c:axId val="18676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67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F78-E33F-4AAD-AFB5-3D9EC306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3BD-88BE-4866-B7C4-F7CAEB4C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ACC-6444-43B8-B91E-84B99E32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21D-C763-4DB0-92C6-4EC0DBB4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D68-7E5E-4F31-8BD7-A14247DA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328-7AC7-4C16-A47C-D92ED632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7EA-512B-4F39-9B9C-A5311E6F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43D-AA0E-446D-A8E2-2C260D45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C22-58FC-443A-BC44-9F6A9A9E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F4D-B2A7-41C7-8F9A-B836A4F3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BF3-7640-44E3-BAC1-9513CCC8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19F-41A0-4877-93D7-AEAE288C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59CEE-5DF2-4FF3-A7DE-5008B68143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