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45272"/>
        <c:axId val="57632915"/>
      </c:barChart>
      <c:catAx>
        <c:axId val="73645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32915"/>
        <c:crosses val="autoZero"/>
        <c:auto val="1"/>
        <c:lblAlgn val="ctr"/>
        <c:lblOffset val="100"/>
        <c:noMultiLvlLbl val="0"/>
      </c:catAx>
      <c:valAx>
        <c:axId val="57632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45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204-8E2F-4FB8-9E55-E5784496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622-F869-4785-BEBB-D463FA62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EDE-3A4A-426D-A763-65537DBF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D9C-FECB-4EC9-B279-0A684BE3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881-D64E-4326-B9F5-389ADB71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43B-7E94-49AA-AF4B-05595BDE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35A-C9EF-4474-9489-BF72F5D6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37D-B13F-4620-9419-7200C08D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E66-1D4B-43D8-BC8B-1B8733B6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620-F4DD-4EDA-B9A9-41B5C322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EFD-D15C-48C2-A231-ABE5207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E2E-1C7E-46EF-B203-2AA2BFDD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694E5-28C0-43EB-8469-6DC13E4FF9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