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52742"/>
        <c:axId val="94795338"/>
      </c:barChart>
      <c:catAx>
        <c:axId val="467527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95338"/>
        <c:crosses val="autoZero"/>
        <c:auto val="1"/>
        <c:lblAlgn val="ctr"/>
        <c:lblOffset val="100"/>
        <c:noMultiLvlLbl val="0"/>
      </c:catAx>
      <c:valAx>
        <c:axId val="947953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527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058-61CF-4309-8797-2437C58E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DA4-4F38-4C4F-AF60-C688371D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6A81-FA80-4B9F-8DF4-F72C1AB8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097-5AE5-4C22-8A44-2032E925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9E6-937C-4AD1-955E-CFC50C48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A47-8781-4DED-BD78-9C69D840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0A4-B11C-4914-822A-0138FB62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439-4E05-4525-BD0D-D4B8C936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A07-FD03-4B6B-8C62-47A3631A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D0D-D001-4804-9B61-E66D60C5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B28-3BC9-454A-B2B9-C3204649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8A3-D387-4DF6-AE6E-64FD594F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E87BE-97AC-46F0-BD6F-B210B7D4AD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