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854625"/>
        <c:axId val="26476819"/>
      </c:barChart>
      <c:catAx>
        <c:axId val="985462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476819"/>
        <c:crosses val="autoZero"/>
        <c:auto val="1"/>
        <c:lblAlgn val="ctr"/>
        <c:lblOffset val="100"/>
        <c:noMultiLvlLbl val="0"/>
      </c:catAx>
      <c:valAx>
        <c:axId val="2647681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5462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3C6CF-4E86-4DD9-8C82-730A3EED5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F41A5-1BC7-457B-B144-35F92C466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C64A9-5311-45EE-941B-C8892BCA3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BD9A6-FAA0-4A02-ABE3-BA45710E5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58B4E-9B5A-4A17-986C-AB4A820E2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2C6DA-9E32-4159-B13C-AB1F49B92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71979-596B-4C2C-AAE0-5F8D140E6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8134B-831B-4A71-A417-D349A38B4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B9BB0-BA25-4101-84BD-BF783742A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111BE-384D-426C-A77B-FC7A4A23C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91C0A-A9CC-43B5-8BE9-836B07461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D2BC9-254F-4941-A052-B4EDD8D8B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908A40-B901-4DC6-A1F8-16FD76D53AA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