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314190"/>
        <c:axId val="92556488"/>
      </c:barChart>
      <c:catAx>
        <c:axId val="431419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556488"/>
        <c:crosses val="autoZero"/>
        <c:auto val="1"/>
        <c:lblAlgn val="ctr"/>
        <c:lblOffset val="100"/>
        <c:noMultiLvlLbl val="0"/>
      </c:catAx>
      <c:valAx>
        <c:axId val="9255648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1419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E2F1-9870-4833-A04C-1F4D0D24D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043E-BCD4-4B00-937C-F6447ABD1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A8F7-EA19-4F68-B7DE-6745ABE21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8B5A-0A8B-4611-8315-953443B3E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F2E4-0E04-4595-9B21-F0253DFAC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C954-F82B-4067-BF11-B524D1376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3FB7-82E5-4D57-98DC-434A13245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CB07-31E9-4A22-BE44-038C06AC0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9CE8-C32B-495B-8F3C-FC362B864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99F2-9D0E-44E7-8653-260767919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7791-93D4-44FA-8FFE-5A29FDF3A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2199-3605-4FBD-9B2A-A66C1F031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A81E86-74F0-4733-B8B0-D529754B026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