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55367"/>
        <c:axId val="22669971"/>
      </c:barChart>
      <c:catAx>
        <c:axId val="20155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69971"/>
        <c:crosses val="autoZero"/>
        <c:auto val="1"/>
        <c:lblAlgn val="ctr"/>
        <c:lblOffset val="100"/>
        <c:noMultiLvlLbl val="0"/>
      </c:catAx>
      <c:valAx>
        <c:axId val="22669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55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3DE-CFEE-4CDB-A0AD-4EB4A0D8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CBD3-85EA-4BA0-B7BA-49A378CC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BDD3-BF49-4710-9FF3-C901B9D1D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754-DCD1-40D3-A851-88E31A06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4F4-CEEB-481E-B414-846FE022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C6A-5C0F-4D61-8E2D-3B61B397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529-2CE4-4A6B-9C6D-0FDC200D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08E2-7AC4-43BE-9905-5BB5DF7B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944-775D-4015-9A9B-63F2EA69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5B9-0E3B-433A-B353-1707CDEC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9C9-DED6-47A7-BE6F-1A2A5F5B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F90-4664-4DAB-B5E0-F389137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0E82E-FF51-44BB-BBBE-08AAFA46FB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