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89965"/>
        <c:axId val="11996833"/>
      </c:barChart>
      <c:catAx>
        <c:axId val="41689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6833"/>
        <c:crosses val="autoZero"/>
        <c:auto val="1"/>
        <c:lblAlgn val="ctr"/>
        <c:lblOffset val="100"/>
        <c:noMultiLvlLbl val="0"/>
      </c:catAx>
      <c:valAx>
        <c:axId val="11996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9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DCD-8505-40CA-BB12-F9B8CEB6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356-A07A-4449-8E2F-25233E27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FFA-4FE8-4F70-AD5E-2C6945EE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469-F3BF-4069-9E61-3C1FFF06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2B2-152B-442A-9713-E410DFBB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8CB-77D8-405B-8649-4489004E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384-A326-45D8-80F7-ACC5A410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B15-FCD7-41AC-84D5-2049980A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70C-914B-4448-B23F-F046B835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6B7-B42B-4922-9EEF-B8D10B6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617-4A08-4833-80BC-4322073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9AE-D165-4B5E-A12A-C1B8F16D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D3165-F131-4B03-8FDB-EB799D1262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