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96510"/>
        <c:axId val="96814751"/>
      </c:barChart>
      <c:catAx>
        <c:axId val="57296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4751"/>
        <c:crosses val="autoZero"/>
        <c:auto val="1"/>
        <c:lblAlgn val="ctr"/>
        <c:lblOffset val="100"/>
        <c:noMultiLvlLbl val="0"/>
      </c:catAx>
      <c:valAx>
        <c:axId val="96814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96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608-E144-466C-BF65-7B3EF91D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928-DA88-4DA8-8A71-1A5F776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9AC-778F-427B-A192-13815210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5A5-265A-419B-B6D9-8CEB7335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DED-FE40-4F60-9AB5-43ED9F62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C36-BAE2-48F2-BC4C-34EB814F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93C-1928-455D-8AAA-F71638F4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857-C95A-46B5-8FFC-1B0C7103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C64-90B4-496A-8B66-05A43026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EBB-A175-48E4-9C9A-5F92923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D7D-EED5-4916-9BCD-00FF9CB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3DE-133B-4070-8B13-95EA606E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C5D99-C9C9-462F-BC64-793C8EE13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