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7150"/>
        <c:axId val="90654284"/>
      </c:barChart>
      <c:catAx>
        <c:axId val="83671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54284"/>
        <c:crosses val="autoZero"/>
        <c:auto val="1"/>
        <c:lblAlgn val="ctr"/>
        <c:lblOffset val="100"/>
        <c:noMultiLvlLbl val="0"/>
      </c:catAx>
      <c:valAx>
        <c:axId val="90654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71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F6B-CC28-4F75-9610-154FADD1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B9F0-7D04-4CBA-8751-2AF5CDED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2446-1C4D-46B7-AFCD-B82FB5E4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A3DD-EA75-49E1-B9E0-3FDF56DB9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B7D1-DB13-4B0D-8354-13C4087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AB0-3C8C-4B89-B0C2-85A877AF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08D-D01A-4CBD-AB87-3DBAEE9E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EEE-795D-4ADD-A89E-17095F3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EF6-D88C-401B-A881-C9786399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87E9-3FBB-4E41-B5F4-4020F718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E7B6-494E-4B48-A139-EC11011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219-97EB-4902-B9A2-994E6A80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D462F-1EFE-4554-A9BC-E72FE3BA6C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