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093320"/>
        <c:axId val="51111761"/>
      </c:barChart>
      <c:catAx>
        <c:axId val="33093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11761"/>
        <c:crosses val="autoZero"/>
        <c:auto val="1"/>
        <c:lblAlgn val="ctr"/>
        <c:lblOffset val="100"/>
        <c:noMultiLvlLbl val="0"/>
      </c:catAx>
      <c:valAx>
        <c:axId val="511117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93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4DA-F8F7-4EBC-8B4F-42380A9B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23A-EAEC-4F60-8419-87C7C448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4DD0-E4E5-4B9A-840C-A8CEE79F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FA88-52A5-45B5-ADE8-1E42A6D7F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8E7-17A9-4923-9345-5ECD442F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36D-4D76-42A0-9E9F-54F0CE5D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AF5-33CB-4CBF-8CD4-44ED1374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128-F70B-4293-B9F1-E9045D80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563-F895-4897-93D3-997EDD74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83D2-135F-4A00-A71F-4D1B3C5C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69CF-BE7D-4891-97A0-32DDF2F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543A-F6B9-442A-AE2B-C25A326B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9DAB5-B338-413F-9FF9-896FBABD7B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