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86722"/>
        <c:axId val="42216427"/>
      </c:barChart>
      <c:catAx>
        <c:axId val="236867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16427"/>
        <c:crosses val="autoZero"/>
        <c:auto val="1"/>
        <c:lblAlgn val="ctr"/>
        <c:lblOffset val="100"/>
        <c:noMultiLvlLbl val="0"/>
      </c:catAx>
      <c:valAx>
        <c:axId val="422164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867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7A5F-CB07-4B0E-A79F-C1785009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C6A9-F599-4D13-8769-A350B382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7B93-FB2D-4046-AF08-56C4EADF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9573-8476-4650-A340-189BE8E4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91A1-883D-4F88-8DF5-440F268A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292C-78B8-4EFB-87E2-0B7E61DA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4233-3DF5-4124-89C1-0D746F67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9D49-B2C1-49FB-8A8C-13A5B3D7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A143-6B39-47CC-93F5-6563C06A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4A66-6AE8-40C7-8A0E-59A9B192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F77F-1F8C-4038-919A-A15CD02F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3243-BC2C-4B77-960F-211F9139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86246-66FF-4522-8DDA-3632563B30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