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02825"/>
        <c:axId val="41539406"/>
      </c:barChart>
      <c:catAx>
        <c:axId val="3300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39406"/>
        <c:crosses val="autoZero"/>
        <c:auto val="1"/>
        <c:lblAlgn val="ctr"/>
        <c:lblOffset val="100"/>
        <c:noMultiLvlLbl val="0"/>
      </c:catAx>
      <c:valAx>
        <c:axId val="41539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4A9-8928-431F-A05D-809EDCB8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797-EAF4-4167-A109-11D25B2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41D-C156-409A-AD91-AFB0EECD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6D7-5AFB-47D2-940D-CFFE70CE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D04-AE97-41D4-9E49-DAB4DCB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98A-22FF-4B5B-9E10-49E86728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F6D-8CE4-4B07-8C78-C853BFF0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EF4-CE07-4DF6-9A3D-F6CE48B6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86F-99C3-4F96-9A04-B96FFCB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1D2-1ABF-430D-B398-603DCB7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B4F-55BD-497A-99BB-076E66B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A67-02AC-42B1-A31F-9A13989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D29B5-E7D7-4B0E-9831-1B9DBA5B6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