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69871"/>
        <c:axId val="88958412"/>
      </c:barChart>
      <c:catAx>
        <c:axId val="88169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58412"/>
        <c:crosses val="autoZero"/>
        <c:auto val="1"/>
        <c:lblAlgn val="ctr"/>
        <c:lblOffset val="100"/>
        <c:noMultiLvlLbl val="0"/>
      </c:catAx>
      <c:valAx>
        <c:axId val="88958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69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35E-414E-494B-A073-D7F0F8E0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8DF-D825-4236-92BA-6988D623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DF7-2F0B-4435-BDAC-D00BC05F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B2D-443C-481A-AB3B-3E8E25D3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B63-FEAE-4D78-9581-A6F53D28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B3B-830B-40C0-A01E-CF369AD2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CCB-1D17-4AF2-B397-625BF67D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FB0-ABFF-4B4A-8850-F40FFE0F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B06-1E0C-4C06-9FB0-DB5F1C6A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687-8EFE-48D0-8FA8-9824BE4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5C3-32F5-42FE-B409-520B92B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496-141C-4D7E-B1A7-36069FDB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6D5F-4396-451F-8528-E8519D16B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