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2803812"/>
        <c:axId val="70714735"/>
      </c:barChart>
      <c:catAx>
        <c:axId val="8280381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714735"/>
        <c:crosses val="autoZero"/>
        <c:auto val="1"/>
        <c:lblAlgn val="ctr"/>
        <c:lblOffset val="100"/>
        <c:noMultiLvlLbl val="0"/>
      </c:catAx>
      <c:valAx>
        <c:axId val="7071473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80381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8B13-CCAC-402F-BEAB-3016ADCB6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199F-F986-4AD6-A246-75E78FA65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1F35-62C3-4618-936E-C0B5BDDFB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6B2C-5B07-456C-852F-128DA63B2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8DC0-595D-4539-AA0E-1CA2FEA8A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6064-B562-42F8-B415-100F56581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5F18-0172-4C38-BCD6-21CC4A696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1A97-09A3-441B-AA81-F4FF5E5C8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7D6C-7AB7-440C-9357-037DB6AE1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A95B-B046-4E5C-A732-939889B88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C280-058B-4C35-9625-AB45FF34B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3FAB-DFED-4BAF-93B9-10E7680D5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37912F-B969-41C0-B988-5DBEFE69254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