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61163"/>
        <c:axId val="45248441"/>
      </c:barChart>
      <c:catAx>
        <c:axId val="26061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8441"/>
        <c:crosses val="autoZero"/>
        <c:auto val="1"/>
        <c:lblAlgn val="ctr"/>
        <c:lblOffset val="100"/>
        <c:noMultiLvlLbl val="0"/>
      </c:catAx>
      <c:valAx>
        <c:axId val="45248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1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10E-8439-48F3-82DC-16945C2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AE6-A7FC-47EC-8B31-B117AE1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B6D-C6F8-4166-B083-A5E60A45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EFF-FFF8-4C6D-9457-ECCB3B11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B4E-9FB3-4D83-995F-E6B36E4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F18-3A45-4CD0-AF21-5CFAD83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48-D64A-415F-B12D-4E4CCBB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790-8B56-4EE4-B68A-6588D031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E0A-C995-406D-9597-6A9B4B5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392-CFD1-47ED-82D1-3BDCED8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833-36C3-4BA0-8EC7-0DC94D8E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7BC-5025-4586-BFB9-1383C19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C0F3B-063A-4062-8977-EA4D878E9A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