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9835"/>
        <c:axId val="42484661"/>
      </c:barChart>
      <c:catAx>
        <c:axId val="4989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4661"/>
        <c:crosses val="autoZero"/>
        <c:auto val="1"/>
        <c:lblAlgn val="ctr"/>
        <c:lblOffset val="100"/>
        <c:noMultiLvlLbl val="0"/>
      </c:catAx>
      <c:valAx>
        <c:axId val="42484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065-1BA1-4C18-B546-6A9CACD3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8FF-D76F-4CE8-97B1-4C16704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2D7-1AC9-40D9-9076-3B134EDE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185-0BEF-4C29-BC63-49F0D09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12F-4B65-421D-93B8-7CC7DF5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27E-3BF9-4AFA-B164-34B4B10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23-66D1-4C6B-8F07-8202693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41D-1525-40A8-B719-7DB5A10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213-D817-4E9D-8B46-AF2FC4D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556-136B-4F68-966C-F0F40762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67A-6BDE-4CC7-9D08-3472AD8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902-A496-4382-A2BB-CE76717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4EFB9-0597-446A-AA8E-2633ABFA1C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