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76828"/>
        <c:axId val="74541208"/>
      </c:barChart>
      <c:catAx>
        <c:axId val="59476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1208"/>
        <c:crosses val="autoZero"/>
        <c:auto val="1"/>
        <c:lblAlgn val="ctr"/>
        <c:lblOffset val="100"/>
        <c:noMultiLvlLbl val="0"/>
      </c:catAx>
      <c:valAx>
        <c:axId val="74541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6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F66-DE34-481D-BDB5-70A61ABF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087-3CF3-4105-9DBB-D37BE2D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D62-5739-4E04-915B-B46C053C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725-D626-4047-8BA2-696E126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EC2-BF99-4CDE-95D4-8961E92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CED-8351-43A5-8864-31785399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4B2-D7F1-4699-BFA7-F8288D2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547-B241-42E1-BFFE-A338C95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263-304B-4B82-8544-4FC98A26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E46-B831-40C1-A33E-6DB34F7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DA6-FBA5-44BB-902E-59A6FBA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C68-B5F9-48C1-8FDB-3AF4527D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7B61-5210-41F6-9E59-06DDE6280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