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95775"/>
        <c:axId val="26167692"/>
      </c:barChart>
      <c:catAx>
        <c:axId val="51095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67692"/>
        <c:crosses val="autoZero"/>
        <c:auto val="1"/>
        <c:lblAlgn val="ctr"/>
        <c:lblOffset val="100"/>
        <c:noMultiLvlLbl val="0"/>
      </c:catAx>
      <c:valAx>
        <c:axId val="26167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95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D858-F8D6-4D04-90C5-559659BA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7F5-D1A3-45AA-BEAB-7417B398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71F-92BE-4B36-8686-A2204E6B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E224-19A3-47C1-9DA6-D238964A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373-D50A-4E7B-8764-0381DB15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03C-0F36-423B-93E0-B8FEFD4F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DA26-0FA4-4F39-81EE-417F394F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8786-926E-409E-A84C-61FB7A40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6EF-5791-4ED8-B243-3D87DA86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D60-CBD2-44A6-BB42-946DE77B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ED73-39E7-47E8-834A-12560C3A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B9C-8998-4377-AC81-8DB0BFD3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6A1BE-3941-4267-9FB6-C5F6EF66FB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