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31088"/>
        <c:axId val="36354132"/>
      </c:barChart>
      <c:catAx>
        <c:axId val="10531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4132"/>
        <c:crosses val="autoZero"/>
        <c:auto val="1"/>
        <c:lblAlgn val="ctr"/>
        <c:lblOffset val="100"/>
        <c:noMultiLvlLbl val="0"/>
      </c:catAx>
      <c:valAx>
        <c:axId val="36354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31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6BD-2062-4E12-8C71-2268B820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158-069E-4444-AEAB-8D2C6D86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98C-861F-45AF-AA3D-028F29D2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BE6-9585-4536-8CA5-69927BD0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A7D-5C42-4A20-8875-4448CDE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8FD-6079-431E-822A-15EBECF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C87-0B44-445D-8B55-1D47FF65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4B8-F526-4845-9B04-94BDD5D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3B2-10F3-4E5A-9EB9-0DBEBE5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F49-98B3-4CD7-89F3-46E704B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E0E-7F21-41D1-8647-ADF22BE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3FA-3904-4E98-A0BD-ABFAFD9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6E6FA-58F6-4BFA-891E-E42B63F0B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