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507646"/>
        <c:axId val="99972752"/>
      </c:barChart>
      <c:catAx>
        <c:axId val="655076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972752"/>
        <c:crosses val="autoZero"/>
        <c:auto val="1"/>
        <c:lblAlgn val="ctr"/>
        <c:lblOffset val="100"/>
        <c:noMultiLvlLbl val="0"/>
      </c:catAx>
      <c:valAx>
        <c:axId val="999727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5076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98C4-43DF-436C-A05F-05ACCFB64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DAE0-3C3B-47E6-80D4-05A815D92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EA36-C985-4F6A-96BE-88A78C0C5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2F7D-CD31-43EC-8D1C-F279C8147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4A34-1FB7-4038-8822-C7C4D4422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1E6F-C424-4560-BF21-0DC427137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2BDA-2A5E-4B8E-AC2C-CA2576CA7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5C3A-9984-4660-A1A1-D2D0422F7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364B-0043-4BFD-ACB0-42504E6EA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A47A-4D6C-43CC-BD44-476586F6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31A3-8FFC-4715-B685-7AD697A5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23B6-715A-4892-9A32-E8EEB3F1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C216A4-7447-4D38-91C4-A023B63628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