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39299"/>
        <c:axId val="11802114"/>
      </c:barChart>
      <c:catAx>
        <c:axId val="589392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02114"/>
        <c:crosses val="autoZero"/>
        <c:auto val="1"/>
        <c:lblAlgn val="ctr"/>
        <c:lblOffset val="100"/>
        <c:noMultiLvlLbl val="0"/>
      </c:catAx>
      <c:valAx>
        <c:axId val="11802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392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520-FE51-41C4-81C0-1D25072D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6A8-B35E-409B-B6C2-9F2F9F1D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49A-9147-40E7-AE1B-7A931DC7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3D6-39A4-4FA3-9DF4-D8549DD2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1AE-F5A6-40E8-ACC7-27D8651F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DF7-13DC-4422-90F6-0F91377B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B33-8266-4F77-9BB3-1CC44620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4B1-A6A6-47A0-8E66-027A0FC9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BD0-A211-472B-9893-BB77216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881-4E8C-4494-A395-FD751B1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9BF-331F-4F17-89D3-DC82362B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EF0-34D7-4B5F-BE7D-21B3C4C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FC438-5C37-4EAA-B098-DA85DFD089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