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38525"/>
        <c:axId val="55293510"/>
      </c:barChart>
      <c:catAx>
        <c:axId val="84738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93510"/>
        <c:crosses val="autoZero"/>
        <c:auto val="1"/>
        <c:lblAlgn val="ctr"/>
        <c:lblOffset val="100"/>
        <c:noMultiLvlLbl val="0"/>
      </c:catAx>
      <c:valAx>
        <c:axId val="55293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38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420-54D4-4DF9-9E15-DCCA854F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B32-4147-4D21-8651-1FDE0489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6EA-A551-43BC-92F5-D77B7DC3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F16-CA09-433C-93FF-7F2EA1FD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E6B-66F5-4299-9CB6-B5425C0D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655-0A33-4ADA-BBEA-1D007674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279-165B-4423-AC57-A6F63645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035-7CD7-4497-8378-B1875157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CED-212E-4FFC-B9B2-AA4E59CC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119-BF46-4297-B1A7-DF5DCBDC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165-C9E2-4A1B-93C1-582973B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5CC-20FA-4A15-B11E-DC942CA1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E1A03-19EB-41EF-9E03-99A29C6C52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