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69339"/>
        <c:axId val="69778135"/>
      </c:barChart>
      <c:catAx>
        <c:axId val="57769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8135"/>
        <c:crosses val="autoZero"/>
        <c:auto val="1"/>
        <c:lblAlgn val="ctr"/>
        <c:lblOffset val="100"/>
        <c:noMultiLvlLbl val="0"/>
      </c:catAx>
      <c:valAx>
        <c:axId val="69778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69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A03-F75B-4340-9A29-59228942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5D2-FB58-48E4-86AE-FF3BC4AE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E35-09CA-408F-90D1-BAD9C94B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825C-E0B4-4E18-8702-21795474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DFC-C60E-493B-ABC1-F3E36691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FBB-B6DF-4550-AE43-031B026B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0C5-8C9B-44A7-8B8E-0DD72AEA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261-6874-4AB6-8BCB-6D537C9B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418-D08D-423D-A9A1-9E470678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438-EA10-4EC9-8148-33654047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24F7-D4AF-4461-AEE2-FCD0177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89B-0B70-404F-B900-D3051C8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22BE3-7BFE-4CB3-94A9-F746D2177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