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94071"/>
        <c:axId val="50576161"/>
      </c:barChart>
      <c:catAx>
        <c:axId val="80894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76161"/>
        <c:crosses val="autoZero"/>
        <c:auto val="1"/>
        <c:lblAlgn val="ctr"/>
        <c:lblOffset val="100"/>
        <c:noMultiLvlLbl val="0"/>
      </c:catAx>
      <c:valAx>
        <c:axId val="50576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94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E22-7D69-4A81-991F-1C9CF94B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B96-250D-41BE-9120-BE57819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C1B-65AC-4370-89F6-AB1E685C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4C3-C557-4F09-9368-B0D2A19A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A7C-40DE-4D78-AD3E-AF7D02E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3EC-BE4E-4B21-9544-8CEB0EBC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732-8D02-4305-950D-2F18B47D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43A-A752-4F00-AA9C-B73EDF23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4AC-2D2F-468F-94A1-BA396E73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08B-4E59-4077-9DDD-CECF355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474-BFB5-47BC-B94A-2BC0ADB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464-F674-4C01-BDB7-CAA96DC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2FB3-1A16-461D-ABDB-EFEA0BE5AB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