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19418"/>
        <c:axId val="48529739"/>
      </c:barChart>
      <c:catAx>
        <c:axId val="76119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29739"/>
        <c:crosses val="autoZero"/>
        <c:auto val="1"/>
        <c:lblAlgn val="ctr"/>
        <c:lblOffset val="100"/>
        <c:noMultiLvlLbl val="0"/>
      </c:catAx>
      <c:valAx>
        <c:axId val="48529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19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724-A772-468F-8C81-285066EB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1857-C1EE-48D7-964A-6408869C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BCF-7EC2-4746-86A5-B6BBF411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F9D-7FD3-427D-8804-F7B85536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773-3ADC-4F14-AA95-5DE9710F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ED7-FA8A-4EE3-95B2-6D3B3D65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49F-0989-49CF-9933-7B1D3ACD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615-3396-44E3-9435-FA495E25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F86-5426-4ED4-9876-5BE54488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EC9-52DA-4D0E-99F3-09DE7B41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56A-3416-48E4-8996-12D60CA2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1EC1-1F14-4871-9111-43C1BA67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6221D-2C38-49E7-9D7F-F80B898E80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