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2555"/>
        <c:axId val="77648996"/>
      </c:barChart>
      <c:catAx>
        <c:axId val="9982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48996"/>
        <c:crosses val="autoZero"/>
        <c:auto val="1"/>
        <c:lblAlgn val="ctr"/>
        <c:lblOffset val="100"/>
        <c:noMultiLvlLbl val="0"/>
      </c:catAx>
      <c:valAx>
        <c:axId val="77648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2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2A9-CAD2-4F15-9EA3-7240F112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0E9-F081-486A-923C-7813E02E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1E7-71EE-49D5-A3AA-CE5C54B0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24C-EDB7-44ED-A1E6-1AD77EA2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229-332A-455C-9046-B410CB88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751-49FC-4B61-AD8B-A5FE8B43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99D-C765-4328-BCDE-8BFC3925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97B-FF3C-4403-9F8E-03EE3F27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10F-417D-4257-85A1-58A9BDA2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AB9-07F2-4F25-B2A7-5459FE6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E34-80BD-4E09-B60D-F62CBD69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9C3-906D-4C75-BB6E-F3AEEF3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826C1-9941-4EFB-8A08-936CD34955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