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763647"/>
        <c:axId val="61059203"/>
      </c:barChart>
      <c:catAx>
        <c:axId val="437636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59203"/>
        <c:crosses val="autoZero"/>
        <c:auto val="1"/>
        <c:lblAlgn val="ctr"/>
        <c:lblOffset val="100"/>
        <c:noMultiLvlLbl val="0"/>
      </c:catAx>
      <c:valAx>
        <c:axId val="610592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636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1983-E4C2-4932-9124-4CA39D13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698D-FD3F-4E08-BB82-4CDF30C1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5863-A249-47EC-8B0F-6DEB484D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2858-6E6E-44F1-A5AB-6E434808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F1CA-9698-4FDB-A3BC-50947E23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72D2-AC9B-4689-BF0D-3FDBC309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4A63-2335-4D24-914A-41D87790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4BDA-2651-4856-80DF-374934B9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FA9F-4EAF-45A1-AC93-491F8C42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1432-D028-4A3C-9EA8-F97F55D7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87FA-6C3A-4417-AABE-F1C1955D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D760-36BA-4B9C-8657-D6A62464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3D211-3997-46F3-9F43-B4EB4191E0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