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10946"/>
        <c:axId val="24071405"/>
      </c:barChart>
      <c:catAx>
        <c:axId val="32910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1405"/>
        <c:crosses val="autoZero"/>
        <c:auto val="1"/>
        <c:lblAlgn val="ctr"/>
        <c:lblOffset val="100"/>
        <c:noMultiLvlLbl val="0"/>
      </c:catAx>
      <c:valAx>
        <c:axId val="24071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10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157-78FB-4A78-BFB4-E7E56788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332-367D-4B29-91AA-69BAF265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5D36-4F9F-440C-8CC8-B988C24A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EA05-2ABB-4AFB-AA32-FBF9D450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C90D-43E1-46B5-8E88-73292B69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DF1-2132-4067-BFAB-29C27576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E87-AC46-4A34-8045-3336DD90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163-CCD4-4E2C-A782-A507C378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6F8-0DD3-4CB0-ACEB-9EA0435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9A0-A2C9-4959-A9C6-73BACF65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1B9-4725-4854-A17F-D5DA7239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064-E6A5-41DA-B2B4-ECE2C859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9C6C2-65CB-4B8A-AF6A-2BF088B08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