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03618"/>
        <c:axId val="37167859"/>
      </c:barChart>
      <c:catAx>
        <c:axId val="13503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7859"/>
        <c:crosses val="autoZero"/>
        <c:auto val="1"/>
        <c:lblAlgn val="ctr"/>
        <c:lblOffset val="100"/>
        <c:noMultiLvlLbl val="0"/>
      </c:catAx>
      <c:valAx>
        <c:axId val="37167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03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E0C-9F7F-4E1B-A508-6D643031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88D-09EF-4CCC-A92E-D8FBD8B3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CF4-76AE-456C-A2A0-357C8EBC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B04-A911-4938-9000-88E0277E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6F7-BCFC-41AE-A023-575AE43F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FC2-9C88-4A45-9020-B234177E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0A2-E123-4C91-9614-38C8DA3B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04D-8376-425F-AEDE-BFDDE4DD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228-E05E-482D-A9AD-09B9B817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CEB-9FAA-4527-B374-A3D6E83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B9D-FF7E-4D32-973E-CCE472DF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B92-69D4-49ED-A4B4-1C48FB91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600D7-1C1F-46AC-8F36-A7297394C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