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975311"/>
        <c:axId val="13052371"/>
      </c:barChart>
      <c:catAx>
        <c:axId val="259753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052371"/>
        <c:crosses val="autoZero"/>
        <c:auto val="1"/>
        <c:lblAlgn val="ctr"/>
        <c:lblOffset val="100"/>
        <c:noMultiLvlLbl val="0"/>
      </c:catAx>
      <c:valAx>
        <c:axId val="130523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753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FD17-9D49-46C1-B9AD-A6789BDFD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3F94-E051-4C1A-91B6-0CE70005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613E-582E-42A7-B3B1-BBBC39A95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D90E-792E-4E7A-B0E3-20A7B84A2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3FAE-E41A-4592-A269-CEC82A85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ECE6-E2C2-4438-9652-8804F660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80F4-A206-4E57-A4F3-6AF270CB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F956-4462-4B17-9ADD-85A17003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30BB-B1BC-4125-B260-E669F783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E9AD-3AC1-4D3F-86D6-BAD13F96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982D-A9ED-4CD4-A331-C8AAF18B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FBF4-2835-4303-B014-F8F8D8C5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A191F-97F4-4FEC-904F-34B3195F45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