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88616"/>
        <c:axId val="63173341"/>
      </c:barChart>
      <c:catAx>
        <c:axId val="99488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73341"/>
        <c:crosses val="autoZero"/>
        <c:auto val="1"/>
        <c:lblAlgn val="ctr"/>
        <c:lblOffset val="100"/>
        <c:noMultiLvlLbl val="0"/>
      </c:catAx>
      <c:valAx>
        <c:axId val="63173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88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6CE-8276-4C65-811D-DF91BA4F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57A-D40B-4397-B378-B14151F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FB4-3AD5-4215-B799-7C753A3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B69-912A-4FCA-83B4-EFDCB0B8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41F-E6D4-4F9C-8040-9C3EE0C9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5A6-3238-4BEF-AE95-A8E49BBF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D85-3D14-489C-88F5-C8F92DB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CB3-E260-4BCB-86A4-77C962B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367-FCFB-4271-9631-E9D9038B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21C-79D7-4F7A-AF7C-318C2C3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D4A-1ED4-4427-9013-CD0EE6E2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2E0-2ADF-490E-9C01-A9E8FE1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620B7-9541-40CA-AD89-C283D84C6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