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6161"/>
        <c:axId val="79021188"/>
      </c:barChart>
      <c:catAx>
        <c:axId val="2736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21188"/>
        <c:crosses val="autoZero"/>
        <c:auto val="1"/>
        <c:lblAlgn val="ctr"/>
        <c:lblOffset val="100"/>
        <c:noMultiLvlLbl val="0"/>
      </c:catAx>
      <c:valAx>
        <c:axId val="790211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6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0BE-0956-4030-B6E1-4FD05BA8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F40-6252-4C08-9A22-C35F8DCC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0DA-5FDD-4B7A-B112-2DF45882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54F-1357-4730-85C1-EAFB84CF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51F-9E21-4058-8A62-728D27C4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760-8E1F-463B-9AD7-A3C18B74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50B1-8D8A-497F-BEC5-4787BAF3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6CA-4BB6-40FE-BCEF-CA4C2564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E1D-E883-4EB5-A65A-0BE552EB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C712-EFC5-45B7-BEB0-72FFCA6F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2593-7A70-4206-A09C-F278C5CD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787-6F60-4E94-A33B-FEDEB5D9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27CE5-F5DF-4650-BEA3-858016FE64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