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14699"/>
        <c:axId val="56678578"/>
      </c:barChart>
      <c:catAx>
        <c:axId val="587146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78578"/>
        <c:crosses val="autoZero"/>
        <c:auto val="1"/>
        <c:lblAlgn val="ctr"/>
        <c:lblOffset val="100"/>
        <c:noMultiLvlLbl val="0"/>
      </c:catAx>
      <c:valAx>
        <c:axId val="56678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146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1B0-0EE6-4A95-9FCD-9657C5A36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149-C4FE-411E-B259-411A3443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C3D-EE45-4AAE-9195-840FAB2F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609-7BFF-400A-A92B-4F337D68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AF0-8D9D-4528-A672-3CF858F0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5EB-3B3E-4788-8448-D7040CDE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AEA-B3A6-4C56-8057-B9956347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8DE-7F47-48FC-9E9B-94E42BF4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DBE-1FFD-4E90-811A-F03E53C4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EF9-2377-4046-BDB2-B452310B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7C1-6311-4560-8337-C7E7701D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B34-6DCA-4A56-A98D-5E7BA814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9F2F6-63D2-4274-A7A6-4B81F6C618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