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904585"/>
        <c:axId val="55961526"/>
      </c:barChart>
      <c:catAx>
        <c:axId val="31904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61526"/>
        <c:crosses val="autoZero"/>
        <c:auto val="1"/>
        <c:lblAlgn val="ctr"/>
        <c:lblOffset val="100"/>
        <c:noMultiLvlLbl val="0"/>
      </c:catAx>
      <c:valAx>
        <c:axId val="55961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04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A65-5A87-4328-80AF-D1E25AE8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02D-0414-4F11-926F-0D510A0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2BD-9C43-45E0-B77D-8301E607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0A83-2786-439B-9C85-4BA92C80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C2B-778E-477A-94FF-6D83B9EA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B9A-B534-4D53-A2BC-619D3FD0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524-B97B-481E-AF31-7C174F9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800-859E-45EC-83BA-E1500E47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22F0-3876-413B-AAB5-FE60A329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A58-8E41-4030-A6B5-56DA989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E16-6495-4D4D-B2D7-C153C9D9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162-1749-485F-807C-4CF230ED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5B5AF-F6D5-4622-9F41-AAE35FDA20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