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980434"/>
        <c:axId val="40294011"/>
      </c:barChart>
      <c:catAx>
        <c:axId val="869804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294011"/>
        <c:crosses val="autoZero"/>
        <c:auto val="1"/>
        <c:lblAlgn val="ctr"/>
        <c:lblOffset val="100"/>
        <c:noMultiLvlLbl val="0"/>
      </c:catAx>
      <c:valAx>
        <c:axId val="402940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9804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9D99-A2AE-4CFB-9205-C36F6816F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7ED8-21DD-496E-8129-F220ACA25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DA63-0E53-4C07-A009-61A7489D5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234E-E4C6-4A7C-BCD8-1B52D7588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9F5C-EE79-4117-AF25-4BF9AFAC3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0452-87F3-4847-BF16-7489BFDF8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9A6C-48F9-4E80-8DC6-4ED1AC418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6ADC-66CB-47AA-B614-6E6973D34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BB92-F8B6-4D2A-9A96-F3E17DC95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8B5C-3A37-43D6-9185-B2298A76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0864-213C-468B-A71D-41F83A13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A89B-E0DA-4370-AB97-DDD04F25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981D14-3B8D-4F0B-AEFD-B83504F2AF6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